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8557-584D-4C40-BB44-160C278B0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4872-0780-40A0-B822-63FB97519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nancial Values Inventory is available at FinanceInTheClassroom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paste the following URL into your browser http://financeintheclassroom.org/student/print.shtml#financialbehavior and scroll down to Financi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wn what you want vs. what you n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1A77-B24E-490D-87FF-290D7AC811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57D-F476-4440-A882-CC9BFD69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8845-0D4B-4F7D-B0ED-8A8AE768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DE3-5ACE-4CE6-A77F-1C241BD9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8E5E-02AB-4B38-9F68-E6AB8E46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BF65-2C7A-48B7-8BCF-23EB06B3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229D-9209-4A7E-A1DE-8FEC77D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F4DB-79E0-493C-8FF2-91259D637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4B14-97AF-46B2-BDA9-F753D277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B335-FA90-4DFA-90DD-227AFAEA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A2369-ECDF-4888-92D4-7DE72CB3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A41C2-E78B-4645-9FB3-A0EC401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BC27-163C-41E9-9EDB-6332EBB8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E29-8564-4776-92BB-AE4A5B84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75D0-28E0-4CC9-AE30-A1FA02BD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8761-425F-491F-896C-C9A51999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2FC4-C25A-4F1F-8E64-26A10498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96D-2F12-417E-ADF4-796C0797F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F15-F978-4BC3-95BE-967CBD12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AE9-98F6-4B0A-BC6A-F43D238E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89C9-C8C3-4FEC-94FE-45DF0E9D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E54-757B-40A6-919E-39F59AB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7125-E5EA-4333-BF6F-5A0CA1AB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06A-F3B0-4F67-B56C-55E97AE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3FA2-68DB-48C5-A977-24C7967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DCA0-CFF4-44B9-B61C-4860C9C9D6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1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6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a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d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0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54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6"/>
                    </a:gs>
                    <a:gs pos="100000">
                      <a:srgbClr val="00004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0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47"/>
                    </a:gs>
                    <a:gs pos="100000">
                      <a:srgbClr val="0000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47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9FA2-2167-404C-83E1-D70A3ACD17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Verdana"/>
              </a:rPr>
              <a:t>Values, Wants and Needs</a:t>
            </a:r>
            <a:endParaRPr b="0" lang="en-US" sz="5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1" name="Picture 8" descr="logo_sm"/>
          <p:cNvPicPr/>
          <p:nvPr/>
        </p:nvPicPr>
        <p:blipFill>
          <a:blip r:embed="rId1"/>
          <a:stretch/>
        </p:blipFill>
        <p:spPr>
          <a:xfrm>
            <a:off x="2895480" y="4343400"/>
            <a:ext cx="336564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895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Values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 strongly influence our spending habits.  We don’t usually spend our money on things we do not feel are important.  Typically, the </a:t>
            </a: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more important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 something is, the more we are </a:t>
            </a: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willing to spend on it</a:t>
            </a: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Verdana"/>
              </a:rPr>
              <a:t>Value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257440" y="1523520"/>
            <a:ext cx="338940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ami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ien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ones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 Reli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depend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ig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480" y="1523520"/>
            <a:ext cx="37324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 beliefs and practices in your life that are very important to yo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Picture 5" descr="mother with daughters 6"/>
          <p:cNvPicPr/>
          <p:nvPr/>
        </p:nvPicPr>
        <p:blipFill>
          <a:blip r:embed="rId1"/>
          <a:stretch/>
        </p:blipFill>
        <p:spPr>
          <a:xfrm>
            <a:off x="1066680" y="3809880"/>
            <a:ext cx="2971800" cy="21495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4838760" y="6477120"/>
            <a:ext cx="4305240" cy="39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* Financial Values Invento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Picture 4" descr="Want_vs_Need_by_rogaziano"/>
          <p:cNvPicPr/>
          <p:nvPr/>
        </p:nvPicPr>
        <p:blipFill>
          <a:blip r:embed="rId1"/>
          <a:stretch/>
        </p:blipFill>
        <p:spPr>
          <a:xfrm>
            <a:off x="2286000" y="609480"/>
            <a:ext cx="4365720" cy="56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Scarcity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Scarc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is an economic principle stating that because of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limited resource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, an economic system cannot possibly produce all the goods and services that people want; therefore, </a:t>
            </a: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choices must be mad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about how the limited resources will be used.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-C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onsumer Economics &amp; Education,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lencoe, 2003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NEEDS vs WANT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476244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NEE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ssentials…the basics of lif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o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oth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el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Picture 5" descr="Vegetables2"/>
          <p:cNvPicPr/>
          <p:nvPr/>
        </p:nvPicPr>
        <p:blipFill>
          <a:blip r:embed="rId1"/>
          <a:stretch/>
        </p:blipFill>
        <p:spPr>
          <a:xfrm>
            <a:off x="3581280" y="3048120"/>
            <a:ext cx="2925720" cy="19476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AdobeBuilding"/>
          <p:cNvPicPr/>
          <p:nvPr/>
        </p:nvPicPr>
        <p:blipFill>
          <a:blip r:embed="rId2"/>
          <a:stretch/>
        </p:blipFill>
        <p:spPr>
          <a:xfrm>
            <a:off x="5638680" y="1523880"/>
            <a:ext cx="2819520" cy="18766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AssortedFruit"/>
          <p:cNvPicPr/>
          <p:nvPr/>
        </p:nvPicPr>
        <p:blipFill>
          <a:blip r:embed="rId3"/>
          <a:stretch/>
        </p:blipFill>
        <p:spPr>
          <a:xfrm>
            <a:off x="5684760" y="4300560"/>
            <a:ext cx="292572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8c8"/>
                </a:solidFill>
                <a:latin typeface="Verdana"/>
              </a:rPr>
              <a:t>NEEDS vs WANTS</a:t>
            </a:r>
            <a:endParaRPr b="0" lang="en-US" sz="4400" spc="-1" strike="noStrike">
              <a:solidFill>
                <a:srgbClr val="b2b8c8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46465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8c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Verdana"/>
              </a:rPr>
              <a:t>WA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mply increase the quality of liv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0" name="Picture 4" descr="Car3"/>
          <p:cNvPicPr/>
          <p:nvPr/>
        </p:nvPicPr>
        <p:blipFill>
          <a:blip r:embed="rId1"/>
          <a:stretch/>
        </p:blipFill>
        <p:spPr>
          <a:xfrm>
            <a:off x="5989680" y="4038480"/>
            <a:ext cx="2925720" cy="22496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ManOnCell"/>
          <p:cNvPicPr/>
          <p:nvPr/>
        </p:nvPicPr>
        <p:blipFill>
          <a:blip r:embed="rId2"/>
          <a:stretch/>
        </p:blipFill>
        <p:spPr>
          <a:xfrm>
            <a:off x="6019920" y="1563840"/>
            <a:ext cx="2819160" cy="21700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facial mask 10"/>
          <p:cNvPicPr/>
          <p:nvPr/>
        </p:nvPicPr>
        <p:blipFill>
          <a:blip r:embed="rId3"/>
          <a:stretch/>
        </p:blipFill>
        <p:spPr>
          <a:xfrm>
            <a:off x="3925800" y="3352680"/>
            <a:ext cx="1865520" cy="2819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residential home 23"/>
          <p:cNvPicPr/>
          <p:nvPr/>
        </p:nvPicPr>
        <p:blipFill>
          <a:blip r:embed="rId4"/>
          <a:stretch/>
        </p:blipFill>
        <p:spPr>
          <a:xfrm>
            <a:off x="228600" y="3657600"/>
            <a:ext cx="35053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9:49:49Z</dcterms:created>
  <dc:creator>Costco</dc:creator>
  <dc:description/>
  <dc:language>en-US</dc:language>
  <cp:lastModifiedBy>Thao Le</cp:lastModifiedBy>
  <dcterms:modified xsi:type="dcterms:W3CDTF">2012-08-27T21:46:41Z</dcterms:modified>
  <cp:revision>8</cp:revision>
  <dc:subject/>
  <dc:title>Slide 1</dc:title>
</cp:coreProperties>
</file>